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4060800" y="3649680"/>
            <a:ext cx="1022400" cy="922320"/>
            <a:chOff x="4060800" y="3649680"/>
            <a:chExt cx="1022400" cy="922320"/>
          </a:xfrm>
        </p:grpSpPr>
        <p:sp>
          <p:nvSpPr>
            <p:cNvPr id="40" name=""/>
            <p:cNvSpPr/>
            <p:nvPr/>
          </p:nvSpPr>
          <p:spPr>
            <a:xfrm>
              <a:off x="41148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 txBox="1"/>
            <p:nvPr/>
          </p:nvSpPr>
          <p:spPr>
            <a:xfrm>
              <a:off x="4060800" y="3801960"/>
              <a:ext cx="1022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a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empty che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40989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"/>
          <p:cNvSpPr/>
          <p:nvPr/>
        </p:nvSpPr>
        <p:spPr>
          <a:xfrm flipV="1">
            <a:off x="45720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561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561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098960" y="2049480"/>
            <a:ext cx="930240" cy="922320"/>
            <a:chOff x="4098960" y="2049480"/>
            <a:chExt cx="930240" cy="922320"/>
          </a:xfrm>
        </p:grpSpPr>
        <p:sp>
          <p:nvSpPr>
            <p:cNvPr id="47" name=""/>
            <p:cNvSpPr/>
            <p:nvPr/>
          </p:nvSpPr>
          <p:spPr>
            <a:xfrm>
              <a:off x="41148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4289400" y="22017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H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40989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45720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561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561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098960" y="449280"/>
            <a:ext cx="930240" cy="922320"/>
            <a:chOff x="4098960" y="449280"/>
            <a:chExt cx="930240" cy="922320"/>
          </a:xfrm>
        </p:grpSpPr>
        <p:sp>
          <p:nvSpPr>
            <p:cNvPr id="54" name=""/>
            <p:cNvSpPr/>
            <p:nvPr/>
          </p:nvSpPr>
          <p:spPr>
            <a:xfrm>
              <a:off x="41148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4175280" y="6015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o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rri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0989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60600" y="2049480"/>
            <a:ext cx="1022400" cy="922320"/>
            <a:chOff x="2460600" y="2049480"/>
            <a:chExt cx="1022400" cy="922320"/>
          </a:xfrm>
        </p:grpSpPr>
        <p:sp>
          <p:nvSpPr>
            <p:cNvPr id="58" name=""/>
            <p:cNvSpPr/>
            <p:nvPr/>
          </p:nvSpPr>
          <p:spPr>
            <a:xfrm>
              <a:off x="25146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460600" y="2201760"/>
              <a:ext cx="1022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m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lver B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4987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3430440" y="25146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703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131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030640" y="25146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4705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133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699160" y="2049480"/>
            <a:ext cx="930240" cy="922320"/>
            <a:chOff x="5699160" y="2049480"/>
            <a:chExt cx="930240" cy="922320"/>
          </a:xfrm>
        </p:grpSpPr>
        <p:sp>
          <p:nvSpPr>
            <p:cNvPr id="68" name=""/>
            <p:cNvSpPr/>
            <p:nvPr/>
          </p:nvSpPr>
          <p:spPr>
            <a:xfrm>
              <a:off x="57150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889600" y="22017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is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6991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98760" y="449280"/>
            <a:ext cx="930240" cy="922320"/>
            <a:chOff x="2498760" y="449280"/>
            <a:chExt cx="930240" cy="922320"/>
          </a:xfrm>
        </p:grpSpPr>
        <p:sp>
          <p:nvSpPr>
            <p:cNvPr id="72" name=""/>
            <p:cNvSpPr/>
            <p:nvPr/>
          </p:nvSpPr>
          <p:spPr>
            <a:xfrm>
              <a:off x="25146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575080" y="6015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r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skele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24987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98560" y="449280"/>
            <a:ext cx="946080" cy="922320"/>
            <a:chOff x="898560" y="449280"/>
            <a:chExt cx="946080" cy="922320"/>
          </a:xfrm>
        </p:grpSpPr>
        <p:sp>
          <p:nvSpPr>
            <p:cNvPr id="76" name=""/>
            <p:cNvSpPr/>
            <p:nvPr/>
          </p:nvSpPr>
          <p:spPr>
            <a:xfrm>
              <a:off x="9144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898560" y="6015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hamb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ld Co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8985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34304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703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131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6630840" y="29732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070760" y="357336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537240" y="30402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299360" y="3649680"/>
            <a:ext cx="641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498760" y="1386000"/>
            <a:ext cx="91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ttacks wh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8302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701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129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98960" y="5249880"/>
            <a:ext cx="930240" cy="922320"/>
            <a:chOff x="4098960" y="5249880"/>
            <a:chExt cx="930240" cy="922320"/>
          </a:xfrm>
        </p:grpSpPr>
        <p:sp>
          <p:nvSpPr>
            <p:cNvPr id="91" name=""/>
            <p:cNvSpPr/>
            <p:nvPr/>
          </p:nvSpPr>
          <p:spPr>
            <a:xfrm>
              <a:off x="4114800" y="5257800"/>
              <a:ext cx="91440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213080" y="5402160"/>
              <a:ext cx="717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s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s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padlo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0989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V="1">
            <a:off x="45720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56160" y="5021280"/>
            <a:ext cx="565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56160" y="4564080"/>
            <a:ext cx="488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699160" y="5249880"/>
            <a:ext cx="946080" cy="922320"/>
            <a:chOff x="5699160" y="5249880"/>
            <a:chExt cx="946080" cy="922320"/>
          </a:xfrm>
        </p:grpSpPr>
        <p:sp>
          <p:nvSpPr>
            <p:cNvPr id="98" name=""/>
            <p:cNvSpPr/>
            <p:nvPr/>
          </p:nvSpPr>
          <p:spPr>
            <a:xfrm>
              <a:off x="57150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5699160" y="54021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abbl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roo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per No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6991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flipH="1">
            <a:off x="50306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705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133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98760" y="5249880"/>
            <a:ext cx="930240" cy="922320"/>
            <a:chOff x="2498760" y="5249880"/>
            <a:chExt cx="930240" cy="922320"/>
          </a:xfrm>
        </p:grpSpPr>
        <p:sp>
          <p:nvSpPr>
            <p:cNvPr id="105" name=""/>
            <p:cNvSpPr/>
            <p:nvPr/>
          </p:nvSpPr>
          <p:spPr>
            <a:xfrm>
              <a:off x="25146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651040" y="54021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is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alle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4987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34304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703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131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98560" y="5249880"/>
            <a:ext cx="946080" cy="1006200"/>
            <a:chOff x="898560" y="5249880"/>
            <a:chExt cx="946080" cy="1006200"/>
          </a:xfrm>
        </p:grpSpPr>
        <p:sp>
          <p:nvSpPr>
            <p:cNvPr id="112" name=""/>
            <p:cNvSpPr/>
            <p:nvPr/>
          </p:nvSpPr>
          <p:spPr>
            <a:xfrm>
              <a:off x="9144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898560" y="5402160"/>
              <a:ext cx="946080" cy="85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i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i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usty Na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8985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13716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557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557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99360" y="5249880"/>
            <a:ext cx="930240" cy="922320"/>
            <a:chOff x="7299360" y="5249880"/>
            <a:chExt cx="930240" cy="922320"/>
          </a:xfrm>
        </p:grpSpPr>
        <p:sp>
          <p:nvSpPr>
            <p:cNvPr id="119" name=""/>
            <p:cNvSpPr/>
            <p:nvPr/>
          </p:nvSpPr>
          <p:spPr>
            <a:xfrm>
              <a:off x="73152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7489800" y="54021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S+1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72993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>
            <a:off x="66308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6135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98560" y="3649680"/>
            <a:ext cx="930240" cy="922320"/>
            <a:chOff x="898560" y="3649680"/>
            <a:chExt cx="930240" cy="922320"/>
          </a:xfrm>
        </p:grpSpPr>
        <p:sp>
          <p:nvSpPr>
            <p:cNvPr id="125" name=""/>
            <p:cNvSpPr/>
            <p:nvPr/>
          </p:nvSpPr>
          <p:spPr>
            <a:xfrm>
              <a:off x="9144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974880" y="38019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ea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wink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8985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8302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701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8129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98560" y="2049480"/>
            <a:ext cx="930240" cy="922320"/>
            <a:chOff x="898560" y="2049480"/>
            <a:chExt cx="930240" cy="922320"/>
          </a:xfrm>
        </p:grpSpPr>
        <p:sp>
          <p:nvSpPr>
            <p:cNvPr id="132" name=""/>
            <p:cNvSpPr/>
            <p:nvPr/>
          </p:nvSpPr>
          <p:spPr>
            <a:xfrm>
              <a:off x="9144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012680" y="2201760"/>
              <a:ext cx="717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ea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beav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8985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13716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55760" y="50212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55760" y="4564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699160" y="449280"/>
            <a:ext cx="930240" cy="922320"/>
            <a:chOff x="5699160" y="449280"/>
            <a:chExt cx="930240" cy="922320"/>
          </a:xfrm>
        </p:grpSpPr>
        <p:sp>
          <p:nvSpPr>
            <p:cNvPr id="139" name=""/>
            <p:cNvSpPr/>
            <p:nvPr/>
          </p:nvSpPr>
          <p:spPr>
            <a:xfrm>
              <a:off x="57150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5851440" y="6015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H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56991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50306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705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133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99360" y="449280"/>
            <a:ext cx="930240" cy="922320"/>
            <a:chOff x="7299360" y="449280"/>
            <a:chExt cx="930240" cy="922320"/>
          </a:xfrm>
        </p:grpSpPr>
        <p:sp>
          <p:nvSpPr>
            <p:cNvPr id="146" name=""/>
            <p:cNvSpPr/>
            <p:nvPr/>
          </p:nvSpPr>
          <p:spPr>
            <a:xfrm>
              <a:off x="73152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413480" y="601560"/>
              <a:ext cx="717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Kitch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wor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72993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>
            <a:off x="66308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0707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6135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098960" y="4662360"/>
            <a:ext cx="428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l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99160" y="6186600"/>
            <a:ext cx="1098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n note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eek the h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f 3 questions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54320" y="-30240"/>
            <a:ext cx="283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ungeons of Thuria - Game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442360" y="6545160"/>
            <a:ext cx="641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213760" y="5424480"/>
            <a:ext cx="428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041560" y="3649680"/>
            <a:ext cx="946080" cy="922320"/>
            <a:chOff x="2041560" y="3649680"/>
            <a:chExt cx="946080" cy="922320"/>
          </a:xfrm>
        </p:grpSpPr>
        <p:sp>
          <p:nvSpPr>
            <p:cNvPr id="158" name=""/>
            <p:cNvSpPr/>
            <p:nvPr/>
          </p:nvSpPr>
          <p:spPr>
            <a:xfrm>
              <a:off x="20574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041560" y="38019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at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arrow tr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0415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 flipV="1">
            <a:off x="1373040" y="29732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812960" y="357336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79440" y="30402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2240" y="2278080"/>
            <a:ext cx="565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i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146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4987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4987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98760" y="50212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98760" y="4564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41560" y="5249880"/>
            <a:ext cx="930240" cy="922320"/>
            <a:chOff x="2041560" y="5249880"/>
            <a:chExt cx="930240" cy="922320"/>
          </a:xfrm>
        </p:grpSpPr>
        <p:sp>
          <p:nvSpPr>
            <p:cNvPr id="172" name=""/>
            <p:cNvSpPr/>
            <p:nvPr/>
          </p:nvSpPr>
          <p:spPr>
            <a:xfrm>
              <a:off x="20574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2079720" y="5402160"/>
              <a:ext cx="870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la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lack R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0415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041560" y="2049480"/>
            <a:ext cx="930240" cy="922320"/>
            <a:chOff x="2041560" y="2049480"/>
            <a:chExt cx="930240" cy="922320"/>
          </a:xfrm>
        </p:grpSpPr>
        <p:sp>
          <p:nvSpPr>
            <p:cNvPr id="176" name=""/>
            <p:cNvSpPr/>
            <p:nvPr/>
          </p:nvSpPr>
          <p:spPr>
            <a:xfrm>
              <a:off x="20574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155680" y="2201760"/>
              <a:ext cx="717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ar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ss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Jewe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0415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25146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987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987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41560" y="449280"/>
            <a:ext cx="930240" cy="922320"/>
            <a:chOff x="2041560" y="449280"/>
            <a:chExt cx="930240" cy="922320"/>
          </a:xfrm>
        </p:grpSpPr>
        <p:sp>
          <p:nvSpPr>
            <p:cNvPr id="183" name=""/>
            <p:cNvSpPr/>
            <p:nvPr/>
          </p:nvSpPr>
          <p:spPr>
            <a:xfrm>
              <a:off x="20574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2079720" y="601560"/>
              <a:ext cx="870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rk D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20415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41360" y="449280"/>
            <a:ext cx="930240" cy="922320"/>
            <a:chOff x="441360" y="449280"/>
            <a:chExt cx="930240" cy="922320"/>
          </a:xfrm>
        </p:grpSpPr>
        <p:sp>
          <p:nvSpPr>
            <p:cNvPr id="187" name=""/>
            <p:cNvSpPr/>
            <p:nvPr/>
          </p:nvSpPr>
          <p:spPr>
            <a:xfrm>
              <a:off x="4572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69960" y="601560"/>
              <a:ext cx="4888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a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4413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13730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129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3557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973240" y="1373040"/>
            <a:ext cx="1370160" cy="228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098960" y="357336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955960" y="12114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65040" y="136368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lug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hing happ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327560" y="3649680"/>
            <a:ext cx="946080" cy="922320"/>
            <a:chOff x="4327560" y="3649680"/>
            <a:chExt cx="946080" cy="922320"/>
          </a:xfrm>
        </p:grpSpPr>
        <p:sp>
          <p:nvSpPr>
            <p:cNvPr id="198" name=""/>
            <p:cNvSpPr/>
            <p:nvPr/>
          </p:nvSpPr>
          <p:spPr>
            <a:xfrm>
              <a:off x="43434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4327560" y="38019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est 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rge H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43275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289400" y="5249880"/>
            <a:ext cx="1022400" cy="922320"/>
            <a:chOff x="4289400" y="5249880"/>
            <a:chExt cx="1022400" cy="922320"/>
          </a:xfrm>
        </p:grpSpPr>
        <p:sp>
          <p:nvSpPr>
            <p:cNvPr id="202" name=""/>
            <p:cNvSpPr/>
            <p:nvPr/>
          </p:nvSpPr>
          <p:spPr>
            <a:xfrm>
              <a:off x="43434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4289400" y="5402160"/>
              <a:ext cx="10224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mly L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narrow sl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43275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8006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84760" y="50212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84760" y="4564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927760" y="5249880"/>
            <a:ext cx="930240" cy="922320"/>
            <a:chOff x="5927760" y="5249880"/>
            <a:chExt cx="930240" cy="922320"/>
          </a:xfrm>
        </p:grpSpPr>
        <p:sp>
          <p:nvSpPr>
            <p:cNvPr id="209" name=""/>
            <p:cNvSpPr/>
            <p:nvPr/>
          </p:nvSpPr>
          <p:spPr>
            <a:xfrm>
              <a:off x="59436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6041880" y="5402160"/>
              <a:ext cx="7174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e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ree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mera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59277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52592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991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2419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851440" y="616428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lover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o vase room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27760" y="3649680"/>
            <a:ext cx="946080" cy="922320"/>
            <a:chOff x="5927760" y="3649680"/>
            <a:chExt cx="946080" cy="922320"/>
          </a:xfrm>
        </p:grpSpPr>
        <p:sp>
          <p:nvSpPr>
            <p:cNvPr id="217" name=""/>
            <p:cNvSpPr/>
            <p:nvPr/>
          </p:nvSpPr>
          <p:spPr>
            <a:xfrm>
              <a:off x="59436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927760" y="38019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ast E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rge H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59277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327560" y="2049480"/>
            <a:ext cx="930240" cy="922320"/>
            <a:chOff x="4327560" y="2049480"/>
            <a:chExt cx="930240" cy="922320"/>
          </a:xfrm>
        </p:grpSpPr>
        <p:sp>
          <p:nvSpPr>
            <p:cNvPr id="221" name=""/>
            <p:cNvSpPr/>
            <p:nvPr/>
          </p:nvSpPr>
          <p:spPr>
            <a:xfrm>
              <a:off x="43434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4479840" y="22017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il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3275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8006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7847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7847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259240" y="41148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6991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419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084560" y="1668600"/>
            <a:ext cx="1281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illow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o main chamber 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41960" y="197316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927760" y="449280"/>
            <a:ext cx="930240" cy="922320"/>
            <a:chOff x="5927760" y="449280"/>
            <a:chExt cx="930240" cy="922320"/>
          </a:xfrm>
        </p:grpSpPr>
        <p:sp>
          <p:nvSpPr>
            <p:cNvPr id="233" name=""/>
            <p:cNvSpPr/>
            <p:nvPr/>
          </p:nvSpPr>
          <p:spPr>
            <a:xfrm>
              <a:off x="59436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080040" y="6015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lco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il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u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59277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927760" y="2049480"/>
            <a:ext cx="930240" cy="922320"/>
            <a:chOff x="5927760" y="2049480"/>
            <a:chExt cx="930240" cy="922320"/>
          </a:xfrm>
        </p:grpSpPr>
        <p:sp>
          <p:nvSpPr>
            <p:cNvPr id="237" name=""/>
            <p:cNvSpPr/>
            <p:nvPr/>
          </p:nvSpPr>
          <p:spPr>
            <a:xfrm>
              <a:off x="59436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965920" y="2201760"/>
              <a:ext cx="870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V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ing V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9277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V="1">
            <a:off x="64008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3849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49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527960" y="2049480"/>
            <a:ext cx="930240" cy="922320"/>
            <a:chOff x="7527960" y="2049480"/>
            <a:chExt cx="930240" cy="922320"/>
          </a:xfrm>
        </p:grpSpPr>
        <p:sp>
          <p:nvSpPr>
            <p:cNvPr id="244" name=""/>
            <p:cNvSpPr/>
            <p:nvPr/>
          </p:nvSpPr>
          <p:spPr>
            <a:xfrm>
              <a:off x="75438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7718400" y="22017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u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75279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6859440" y="25146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2993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421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6859440" y="13730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65840" y="14400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42160" y="1157400"/>
            <a:ext cx="61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li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0010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9851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9851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756560" y="601560"/>
            <a:ext cx="717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81480" y="5029200"/>
            <a:ext cx="7873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lam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955960" y="3672000"/>
            <a:ext cx="54936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o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ro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154320" y="-30240"/>
            <a:ext cx="283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ungeons of Thuria - Game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442360" y="6545160"/>
            <a:ext cx="641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9240" y="13730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2498760" y="3649680"/>
            <a:ext cx="930240" cy="922320"/>
            <a:chOff x="2498760" y="3649680"/>
            <a:chExt cx="930240" cy="922320"/>
          </a:xfrm>
        </p:grpSpPr>
        <p:sp>
          <p:nvSpPr>
            <p:cNvPr id="263" name=""/>
            <p:cNvSpPr/>
            <p:nvPr/>
          </p:nvSpPr>
          <p:spPr>
            <a:xfrm>
              <a:off x="25146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536920" y="3801960"/>
              <a:ext cx="870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r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rop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in bask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4987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29718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55960" y="4564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098960" y="3649680"/>
            <a:ext cx="930240" cy="922320"/>
            <a:chOff x="4098960" y="3649680"/>
            <a:chExt cx="930240" cy="922320"/>
          </a:xfrm>
        </p:grpSpPr>
        <p:sp>
          <p:nvSpPr>
            <p:cNvPr id="269" name=""/>
            <p:cNvSpPr/>
            <p:nvPr/>
          </p:nvSpPr>
          <p:spPr>
            <a:xfrm>
              <a:off x="41148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289400" y="38019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ma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0989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430440" y="41148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703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131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727360" y="5326200"/>
            <a:ext cx="565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720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56160" y="3421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56160" y="2963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098960" y="2049480"/>
            <a:ext cx="930240" cy="922320"/>
            <a:chOff x="4098960" y="2049480"/>
            <a:chExt cx="930240" cy="922320"/>
          </a:xfrm>
        </p:grpSpPr>
        <p:sp>
          <p:nvSpPr>
            <p:cNvPr id="280" name=""/>
            <p:cNvSpPr/>
            <p:nvPr/>
          </p:nvSpPr>
          <p:spPr>
            <a:xfrm>
              <a:off x="41148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289400" y="2201760"/>
              <a:ext cx="5652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v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0989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98560" y="2049480"/>
            <a:ext cx="930240" cy="922320"/>
            <a:chOff x="898560" y="2049480"/>
            <a:chExt cx="930240" cy="922320"/>
          </a:xfrm>
        </p:grpSpPr>
        <p:sp>
          <p:nvSpPr>
            <p:cNvPr id="284" name=""/>
            <p:cNvSpPr/>
            <p:nvPr/>
          </p:nvSpPr>
          <p:spPr>
            <a:xfrm>
              <a:off x="9144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974880" y="22017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g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ld Eg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8985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 flipV="1">
            <a:off x="1830240" y="29732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70160" y="357336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736640" y="30402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98560" y="449280"/>
            <a:ext cx="930240" cy="1158840"/>
            <a:chOff x="898560" y="449280"/>
            <a:chExt cx="930240" cy="1158840"/>
          </a:xfrm>
        </p:grpSpPr>
        <p:sp>
          <p:nvSpPr>
            <p:cNvPr id="291" name=""/>
            <p:cNvSpPr/>
            <p:nvPr/>
          </p:nvSpPr>
          <p:spPr>
            <a:xfrm>
              <a:off x="9144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974880" y="601560"/>
              <a:ext cx="79380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tting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i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f Boo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8985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3716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557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3557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12960" y="2833560"/>
            <a:ext cx="97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l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op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ise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h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99160" y="3649680"/>
            <a:ext cx="946080" cy="922320"/>
            <a:chOff x="5699160" y="3649680"/>
            <a:chExt cx="946080" cy="922320"/>
          </a:xfrm>
        </p:grpSpPr>
        <p:sp>
          <p:nvSpPr>
            <p:cNvPr id="299" name=""/>
            <p:cNvSpPr/>
            <p:nvPr/>
          </p:nvSpPr>
          <p:spPr>
            <a:xfrm>
              <a:off x="57150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699160" y="38019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orth S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56991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030640" y="41148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4705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13360" y="4106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299360" y="5249880"/>
            <a:ext cx="946080" cy="922320"/>
            <a:chOff x="7299360" y="5249880"/>
            <a:chExt cx="946080" cy="922320"/>
          </a:xfrm>
        </p:grpSpPr>
        <p:sp>
          <p:nvSpPr>
            <p:cNvPr id="306" name=""/>
            <p:cNvSpPr/>
            <p:nvPr/>
          </p:nvSpPr>
          <p:spPr>
            <a:xfrm>
              <a:off x="73152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7299360" y="54021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hr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Ques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Courier New"/>
                  <a:ea typeface="Courier New"/>
                </a:rPr>
                <a:t>little m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72993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61722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299360" y="3649680"/>
            <a:ext cx="930240" cy="922320"/>
            <a:chOff x="7299360" y="3649680"/>
            <a:chExt cx="930240" cy="922320"/>
          </a:xfrm>
        </p:grpSpPr>
        <p:sp>
          <p:nvSpPr>
            <p:cNvPr id="311" name=""/>
            <p:cNvSpPr/>
            <p:nvPr/>
          </p:nvSpPr>
          <p:spPr>
            <a:xfrm>
              <a:off x="7315200" y="3657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375680" y="38019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yram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latin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yram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299360" y="36496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H="1">
            <a:off x="6630840" y="57150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613560" y="57070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629400" y="457344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561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561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098960" y="449280"/>
            <a:ext cx="930240" cy="922320"/>
            <a:chOff x="4098960" y="449280"/>
            <a:chExt cx="930240" cy="922320"/>
          </a:xfrm>
        </p:grpSpPr>
        <p:sp>
          <p:nvSpPr>
            <p:cNvPr id="321" name=""/>
            <p:cNvSpPr/>
            <p:nvPr/>
          </p:nvSpPr>
          <p:spPr>
            <a:xfrm>
              <a:off x="41148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175280" y="601560"/>
              <a:ext cx="7938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arr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ed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amon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0989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 txBox="1"/>
          <p:nvPr/>
        </p:nvSpPr>
        <p:spPr>
          <a:xfrm>
            <a:off x="3886200" y="1447920"/>
            <a:ext cx="666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wave ro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r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rys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id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498760" y="2049480"/>
            <a:ext cx="946080" cy="922320"/>
            <a:chOff x="2498760" y="2049480"/>
            <a:chExt cx="946080" cy="922320"/>
          </a:xfrm>
        </p:grpSpPr>
        <p:sp>
          <p:nvSpPr>
            <p:cNvPr id="326" name=""/>
            <p:cNvSpPr/>
            <p:nvPr/>
          </p:nvSpPr>
          <p:spPr>
            <a:xfrm>
              <a:off x="25146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2498760" y="22017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ibra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iant Boo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24987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 flipH="1">
            <a:off x="3430440" y="25146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703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413160" y="2506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971800" y="1373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55960" y="18208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955960" y="13636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98760" y="449280"/>
            <a:ext cx="930240" cy="922320"/>
            <a:chOff x="2498760" y="449280"/>
            <a:chExt cx="930240" cy="922320"/>
          </a:xfrm>
        </p:grpSpPr>
        <p:sp>
          <p:nvSpPr>
            <p:cNvPr id="336" name=""/>
            <p:cNvSpPr/>
            <p:nvPr/>
          </p:nvSpPr>
          <p:spPr>
            <a:xfrm>
              <a:off x="25146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2536920" y="601560"/>
              <a:ext cx="8701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u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rge Ru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4987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H="1" flipV="1">
            <a:off x="1830240" y="13730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736640" y="14400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413160" y="547560"/>
            <a:ext cx="428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f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u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955960" y="50212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546880" y="4586400"/>
            <a:ext cx="666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we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walk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699160" y="449280"/>
            <a:ext cx="930240" cy="922320"/>
            <a:chOff x="5699160" y="449280"/>
            <a:chExt cx="930240" cy="922320"/>
          </a:xfrm>
        </p:grpSpPr>
        <p:sp>
          <p:nvSpPr>
            <p:cNvPr id="345" name=""/>
            <p:cNvSpPr/>
            <p:nvPr/>
          </p:nvSpPr>
          <p:spPr>
            <a:xfrm>
              <a:off x="5715000" y="457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5851440" y="6015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nsw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o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cro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5699160" y="4492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H="1">
            <a:off x="5030640" y="91440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013360" y="9064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013360" y="547560"/>
            <a:ext cx="549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r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756560" y="3116160"/>
            <a:ext cx="7873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ep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n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f pyram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146400" y="-30240"/>
            <a:ext cx="285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ungeons of Thuria - Game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442360" y="6545160"/>
            <a:ext cx="641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575080" y="2963880"/>
            <a:ext cx="793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u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812960" y="1081080"/>
            <a:ext cx="549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994440" y="6186600"/>
            <a:ext cx="15256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) What is your nam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2) What is your quest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) Who wrote “Spe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Tricks”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299360" y="2049480"/>
            <a:ext cx="930240" cy="922320"/>
            <a:chOff x="7299360" y="2049480"/>
            <a:chExt cx="930240" cy="922320"/>
          </a:xfrm>
        </p:grpSpPr>
        <p:sp>
          <p:nvSpPr>
            <p:cNvPr id="358" name=""/>
            <p:cNvSpPr/>
            <p:nvPr/>
          </p:nvSpPr>
          <p:spPr>
            <a:xfrm>
              <a:off x="7315200" y="205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7451640" y="2201760"/>
              <a:ext cx="64152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Ho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/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7299360" y="20494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V="1">
            <a:off x="7772400" y="29732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629400" y="609480"/>
            <a:ext cx="1028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n scrol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) your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2) return h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) Marc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72400" y="45734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756560" y="502128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147080" y="464040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699160" y="5249880"/>
            <a:ext cx="946080" cy="922320"/>
            <a:chOff x="5699160" y="5249880"/>
            <a:chExt cx="946080" cy="922320"/>
          </a:xfrm>
        </p:grpSpPr>
        <p:sp>
          <p:nvSpPr>
            <p:cNvPr id="367" name=""/>
            <p:cNvSpPr/>
            <p:nvPr/>
          </p:nvSpPr>
          <p:spPr>
            <a:xfrm>
              <a:off x="5715000" y="5257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699160" y="5402160"/>
              <a:ext cx="94608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outh Si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ear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5699160" y="524988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5030640" y="1373040"/>
            <a:ext cx="684360" cy="684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62720" y="1447920"/>
            <a:ext cx="260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38080" y="2971800"/>
            <a:ext cx="78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te 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ide eg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154320" y="-30240"/>
            <a:ext cx="283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ungeons of Thuria - Game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94040" y="525600"/>
            <a:ext cx="1555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mp Maze (2S+1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87440" y="441972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286000" y="2820960"/>
            <a:ext cx="0" cy="159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955960" y="4183200"/>
            <a:ext cx="473040" cy="465120"/>
            <a:chOff x="2955960" y="4183200"/>
            <a:chExt cx="473040" cy="465120"/>
          </a:xfrm>
        </p:grpSpPr>
        <p:sp>
          <p:nvSpPr>
            <p:cNvPr id="378" name=""/>
            <p:cNvSpPr/>
            <p:nvPr/>
          </p:nvSpPr>
          <p:spPr>
            <a:xfrm>
              <a:off x="2971800" y="4191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955960" y="41832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30440" y="44197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200400" y="350676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955960" y="5097600"/>
            <a:ext cx="473040" cy="465120"/>
            <a:chOff x="2955960" y="5097600"/>
            <a:chExt cx="473040" cy="465120"/>
          </a:xfrm>
        </p:grpSpPr>
        <p:sp>
          <p:nvSpPr>
            <p:cNvPr id="383" name=""/>
            <p:cNvSpPr/>
            <p:nvPr/>
          </p:nvSpPr>
          <p:spPr>
            <a:xfrm>
              <a:off x="2971800" y="5105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2955960" y="50976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430440" y="533412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870360" y="4183200"/>
            <a:ext cx="473040" cy="465120"/>
            <a:chOff x="3870360" y="4183200"/>
            <a:chExt cx="473040" cy="465120"/>
          </a:xfrm>
        </p:grpSpPr>
        <p:sp>
          <p:nvSpPr>
            <p:cNvPr id="387" name=""/>
            <p:cNvSpPr/>
            <p:nvPr/>
          </p:nvSpPr>
          <p:spPr>
            <a:xfrm>
              <a:off x="3886200" y="41911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3870360" y="41832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5029200" y="3506760"/>
            <a:ext cx="0" cy="159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784760" y="5097600"/>
            <a:ext cx="473040" cy="465120"/>
            <a:chOff x="4784760" y="5097600"/>
            <a:chExt cx="473040" cy="465120"/>
          </a:xfrm>
        </p:grpSpPr>
        <p:sp>
          <p:nvSpPr>
            <p:cNvPr id="391" name=""/>
            <p:cNvSpPr/>
            <p:nvPr/>
          </p:nvSpPr>
          <p:spPr>
            <a:xfrm>
              <a:off x="4800600" y="5105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4784760" y="50976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259240" y="5334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73640" y="533412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943600" y="37353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699160" y="5097600"/>
            <a:ext cx="473040" cy="465120"/>
            <a:chOff x="5699160" y="5097600"/>
            <a:chExt cx="473040" cy="465120"/>
          </a:xfrm>
        </p:grpSpPr>
        <p:sp>
          <p:nvSpPr>
            <p:cNvPr id="397" name=""/>
            <p:cNvSpPr/>
            <p:nvPr/>
          </p:nvSpPr>
          <p:spPr>
            <a:xfrm>
              <a:off x="5715000" y="5105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5699160" y="50976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V="1">
            <a:off x="5943600" y="4116240"/>
            <a:ext cx="0" cy="98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858000" y="3506760"/>
            <a:ext cx="0" cy="182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041560" y="2354400"/>
            <a:ext cx="473040" cy="465120"/>
            <a:chOff x="2041560" y="2354400"/>
            <a:chExt cx="473040" cy="465120"/>
          </a:xfrm>
        </p:grpSpPr>
        <p:sp>
          <p:nvSpPr>
            <p:cNvPr id="402" name=""/>
            <p:cNvSpPr/>
            <p:nvPr/>
          </p:nvSpPr>
          <p:spPr>
            <a:xfrm>
              <a:off x="205740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2041560" y="23544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516040" y="25909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01840" y="350532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784760" y="2354400"/>
            <a:ext cx="473040" cy="465120"/>
            <a:chOff x="4784760" y="2354400"/>
            <a:chExt cx="473040" cy="465120"/>
          </a:xfrm>
        </p:grpSpPr>
        <p:sp>
          <p:nvSpPr>
            <p:cNvPr id="407" name=""/>
            <p:cNvSpPr/>
            <p:nvPr/>
          </p:nvSpPr>
          <p:spPr>
            <a:xfrm>
              <a:off x="480060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4784760" y="23544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259240" y="25909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029200" y="167796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699160" y="2354400"/>
            <a:ext cx="473040" cy="465120"/>
            <a:chOff x="5699160" y="2354400"/>
            <a:chExt cx="473040" cy="465120"/>
          </a:xfrm>
        </p:grpSpPr>
        <p:sp>
          <p:nvSpPr>
            <p:cNvPr id="412" name=""/>
            <p:cNvSpPr/>
            <p:nvPr/>
          </p:nvSpPr>
          <p:spPr>
            <a:xfrm>
              <a:off x="571500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5699160" y="23544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173640" y="259092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5699160" y="3268800"/>
            <a:ext cx="473040" cy="465120"/>
            <a:chOff x="5699160" y="3268800"/>
            <a:chExt cx="473040" cy="465120"/>
          </a:xfrm>
        </p:grpSpPr>
        <p:sp>
          <p:nvSpPr>
            <p:cNvPr id="416" name=""/>
            <p:cNvSpPr/>
            <p:nvPr/>
          </p:nvSpPr>
          <p:spPr>
            <a:xfrm>
              <a:off x="5715000" y="3276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5699160" y="3268800"/>
              <a:ext cx="336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6173640" y="3505320"/>
            <a:ext cx="68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8209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58000" y="167796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0640" y="167652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01640" y="5334120"/>
            <a:ext cx="1370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01640" y="25909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508040" y="5097600"/>
            <a:ext cx="412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508040" y="2354400"/>
            <a:ext cx="336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69960" y="4906800"/>
            <a:ext cx="79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bb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46280" y="2163600"/>
            <a:ext cx="79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abb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442360" y="6545160"/>
            <a:ext cx="641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994120" y="5326200"/>
            <a:ext cx="412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00400" y="46497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ian Lingard</dc:creator>
  <dc:description/>
  <dc:language>en-US</dc:language>
  <cp:lastModifiedBy>Brian Lingard</cp:lastModifiedBy>
  <cp:revision>0</cp:revision>
  <dc:subject/>
  <dc:title>No Slide Title</dc:title>
</cp:coreProperties>
</file>